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13A-80AE-4FC5-AC1A-8F8BED12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208-7474-457F-8AD7-F0DE2CF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5ED-7538-410D-B137-221B2D36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A46-472A-416C-899C-E42F0AA3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5DC1-A61C-4319-B3BC-9DCFB867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2E9-FB43-4816-BFF4-A8223BA2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6ED9-9651-4D16-A949-2B5CE557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6741-3A71-4E52-A4BD-D421E50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F6F2-A757-46E6-AE14-C91B604A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F581-10F4-48DD-9544-F3E4D8DD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4460-0705-4E6F-8748-84670BF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570-FD72-44A7-B060-8E51371E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2070-01C7-4295-9E38-631C834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E7D1-08A5-40B6-B2CF-189EC42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11D8-0A59-4EA2-936C-BD4E5589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09F7-E067-4364-94D4-1C221E33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5D25-193C-4DB3-A63A-79A8A378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CC1E-23DC-43E7-AB17-D7373BA4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3610-F94B-4284-9294-B0CB3107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1C9E-D752-4CB3-867E-8988FAB1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2256-B70D-48A0-B3CA-C92A75A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E1C2-76FB-4D69-B828-34B20C0A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E32-E6CA-4AF0-B965-5E3C682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06B7-4E5C-4DFC-BBA2-0663B66A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2B1B-6F7D-47F2-934C-23F8236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34F6-F135-4C19-8299-62B1C00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4C85-1E28-430A-990E-8572D18F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49FC-E36A-42F3-B40D-7A73926F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6E55-C372-45AE-B29D-429E5ADA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6676-6FDA-42E1-85A0-6CD3DAE3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C81D-8A0F-4D09-BEA5-EE34B886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D4DE-F1A5-494E-94C6-4A2AD1FE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7EB2-3905-4F02-8E08-50ED84DC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A72-EBB1-4D54-9EA7-5CFD308B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36AB-BE6D-46EA-8229-66D27A65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0630-F612-4298-8A12-48E2C10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9052-75BD-4219-B106-361B1ECE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8E4B-B41C-4BC8-A5F9-00A3FB74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069AE-D643-4264-B0FD-E7D9B23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3479E-D7FA-489B-B5B9-A4610EB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7335-64B8-463F-9559-9307541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95F9-59EE-4931-8C0C-FF5DA689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AA21-A29F-46F9-B232-9E031CE1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D79B8-428E-4493-A944-0C64107B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B9C-ACDE-4E42-B26D-44A08B7E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CEB7-DF65-4119-8D95-53CD0D43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1E918-02C5-4A36-8FFD-30BA16F9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CE85-5890-454F-8ED0-472302D3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3FF1-4DB0-4549-89F8-82C2AC99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D5AA-4A1A-4B42-BEA0-3F2E4523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F7467-26AA-457C-8A50-BDCE60D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4BA3-BCBC-4A64-835E-F90043B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6CDF5-DC41-4CDF-A81D-A31C6C1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F217F-B04B-4A53-AC39-8EEFAAC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63E86-B58D-4B76-92BE-CB49AF5F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0EF-0E9D-4062-A1DB-9169994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C648-51E8-46C3-A9AC-67B19BE5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AE9-B9D0-4E87-AA90-9C0CD92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91C-44BF-4E3D-8C05-B7680EB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7A7-7D42-4704-AE9D-317A3236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D53-1488-4FFA-9796-347537C9A0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CDC8-0721-48D9-87E4-316F1262CE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368-8584-4E90-A6E5-633DC790A0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38AA-942E-4BF4-B500-F1819F86F8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F6D9-C945-4657-9E51-A56816CCB9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ds to ongoing invest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explanations are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malous observations cannot be disregard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adigm shifts may occur (Kuh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efits from scientific 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y attention to what other people have already do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ose your ideas to testing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milate the evidenc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enly communicate ideas and tests to oth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y fair: Act with scientific integrit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do we mean by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gi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ysticis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ch of these has a set of core beliefs and practices that define it and distinguish it from other “worldviews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ying the game…a metapho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3" name="Picture 5" descr="C:\Documents and Settings\ecrobeck\Local Settings\Temporary Internet Files\Content.IE5\RKGQ0G17\MP900422165[1].jpg"/>
          <p:cNvPicPr/>
          <p:nvPr/>
        </p:nvPicPr>
        <p:blipFill>
          <a:blip r:embed="rId1"/>
          <a:stretch/>
        </p:blipFill>
        <p:spPr>
          <a:xfrm>
            <a:off x="343224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ecrobeck\Local Settings\Temporary Internet Files\Content.IE5\EOYNERVY\MC900318752[1].wmf"/>
          <p:cNvPicPr/>
          <p:nvPr/>
        </p:nvPicPr>
        <p:blipFill>
          <a:blip r:embed="rId2"/>
          <a:stretch/>
        </p:blipFill>
        <p:spPr>
          <a:xfrm>
            <a:off x="6248520" y="1905120"/>
            <a:ext cx="1430280" cy="182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:\Documents and Settings\ecrobeck\Local Settings\Temporary Internet Files\Content.IE5\EOYNERVY\MC900233050[1].wmf"/>
          <p:cNvPicPr/>
          <p:nvPr/>
        </p:nvPicPr>
        <p:blipFill>
          <a:blip r:embed="rId3"/>
          <a:stretch/>
        </p:blipFill>
        <p:spPr>
          <a:xfrm>
            <a:off x="3048120" y="4648320"/>
            <a:ext cx="2462040" cy="17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C:\Documents and Settings\ecrobeck\Local Settings\Temporary Internet Files\Content.IE5\O3CJTFRG\MC900054050[1].wmf"/>
          <p:cNvPicPr/>
          <p:nvPr/>
        </p:nvPicPr>
        <p:blipFill>
          <a:blip r:embed="rId4"/>
          <a:stretch/>
        </p:blipFill>
        <p:spPr>
          <a:xfrm>
            <a:off x="762120" y="3733920"/>
            <a:ext cx="1633320" cy="259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1371600" y="1905120"/>
            <a:ext cx="1706400" cy="1823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Program Files\Microsoft Office\MEDIA\CAGCAT10\j0298653.wmf"/>
          <p:cNvPicPr/>
          <p:nvPr/>
        </p:nvPicPr>
        <p:blipFill>
          <a:blip r:embed="rId6"/>
          <a:stretch/>
        </p:blipFill>
        <p:spPr>
          <a:xfrm>
            <a:off x="5943600" y="4572000"/>
            <a:ext cx="2946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600200" y="317520"/>
            <a:ext cx="64008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es on the natural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opposed to…??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does not accept explanations based on supernatural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vine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im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ystic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lies on physical causes that posit interactions among fundamental entities; matter, energy,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s to explain the natural wor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orks to produce increasingly accurate explanations for how the world work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lways more ques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ledge is always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s testable ide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parate assumptions from ideas that can be tes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hysical causes fo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uniform cha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velop tests that can confirm or refu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xenolobs are green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blue xenolob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es on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jects author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NOT about voting (e.g., “most scientists believe…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be auditable—if you want to check, can you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(usually) be consistent with established theory, since those theories are also based on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raordinary claims require extraordinary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simony – Occam’s raz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 involves the scientific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cessity to publis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29:19Z</dcterms:created>
  <dc:creator>Information  Technology</dc:creator>
  <dc:description/>
  <dc:language>en-US</dc:language>
  <cp:lastModifiedBy>Information  Technology</cp:lastModifiedBy>
  <dcterms:modified xsi:type="dcterms:W3CDTF">2010-10-12T17:46:12Z</dcterms:modified>
  <cp:revision>31</cp:revision>
  <dc:subject/>
  <dc:title>Slide 1</dc:title>
</cp:coreProperties>
</file>